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A0322-3217-405C-A35E-815C3E1C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73A7-E804-4A1F-98ED-E0C7F169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7198-FDD0-4C88-BF4C-DE815984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0073-1E62-4BCB-BBDE-C47A39B2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9F42-AA33-4114-A5F4-82EBC85D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2448-2849-4D0D-BE6E-2EA965B7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F209-E249-4266-ABB0-A899AF89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AAC4-2CDC-47F2-ADD0-D5B0D427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D52C-18B7-47BD-ACF7-E98AF7F7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FED4-EE97-4D6A-B860-B6E9CD2B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43CC-4BE7-456C-A5D0-A2C6214E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4F76-8B19-4F41-9262-2CEE2D83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683C-00D2-4395-8E69-98C0656C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5CBB-0EC2-45A6-8CBD-84CD0F64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C7B2-FBFB-46FD-A049-8C67BA2E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5A36-7521-4F70-AEF5-4333678D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D3F6-0BA1-419D-ACC0-0B1C68D2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9C433-2E1B-4381-A25B-39BE1E39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BEE3-3D11-44CA-833A-00C25104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95C7-E4AD-40AB-B1DA-26E577F0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10DA-BBF8-47F3-8B30-DBECF3F6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9E21-BCE7-4758-9065-1D9C4BC7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C961F-8641-49E5-AA15-CB5F8061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AA8F-06C9-42EF-839D-F4A57FAA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12E5-6ADA-4159-8333-471572DC4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B64E-FB0B-421B-9751-6171A9F5F8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omma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fter school, Ann, an old friend, drov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 ho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fter school Ann, an old friend, drove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o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fter school, Ann an old friend drove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o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After school, Ann, an old friend, drov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me ho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fter school Ann, an old friend, drove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o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fter school, Ann an old friend drove m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om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t the club the band played rock pop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p-hop and sals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t the club the band played rock, pop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p-hop and sals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t the club, the band played rock, pop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p-hop, and sals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t the club the band played rock pop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p-hop and sals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t the club the band played rock, pop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p-hop and sals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At the club, the band played rock,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op, hip-hop, and sals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I asked Bob if he would baby sit, but 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wned and said, “I’m busy that night.”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 asked Bob if he would baby sit but 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wned and said “I’m busy that night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 asked Bob, if he would baby sit, but 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wned, and said “I’m busy that night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I asked Bob if he would baby sit, but he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rowned and said, “I’m busy that night.”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 asked Bob if he would baby sit but 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wned and said “I’m busy that night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 asked Bob, if he would baby sit, but 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wned, and said “I’m busy that night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y birthday is September 25 1968 whi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the same as Will Smith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y birthday is September 25 1968, whi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the same as Will Smith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y birthday is September 25, 1968, whi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the same as Will Smith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y birthday is September 25 1968 whi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the same as Will Smith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y birthday is September 25 1968, whic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the same as Will Smith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My birthday is September 25, 1968,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which is the same as Will Smith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ccording to Steve an expert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rth Pole there is no Santa Clau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ccording to Steve, an expert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rth Pole, there is no Santa Clau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ccording to Steve, an expert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rth Pole there is no Santa Clau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ccording to Steve an expert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rth Pole there is no Santa Clau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According to Steve, an expert on t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North Pole, there is no Santa Clau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ccording to Steve, an expert on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rth Pole there is no Santa Clau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are comma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as (,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punctuation marks that separate words and word groups to help readers understand a sentence. Commas are 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parate three or more items in a seri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am wearing a ha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glov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a scar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Often, people, who get little sleep, make mistakes, hav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idents, and have low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Often, people who get little sleep, make mistakes, hav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idents, and have low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Often, people who get little sleep make mistakes, hav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idents, and have low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Often, people, who get little sleep, make mistakes, hav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idents, and have low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Often, people who get little sleep, make mistakes, hav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idents, and have low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) Often, people who get little sleep make mistakes,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have accidents, and have low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ose who drive recklessly increase thei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isks of tickets arrests and accident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ose, who drive recklessly, increase thei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isks of tickets arrests and accident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ose who drive recklessly increase, thei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isks of tickets, arrests, and accident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hose who drive recklessly increase their risk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 tickets arrests and accide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hose, who drive recklessly, increase their risk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 tickets arrests and accide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ose who drive recklessly increase, their risk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 tickets, arrests, and accide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) none of the above; the revision should be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hose who drive recklessly increase their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risks of tickets, arrests, and accident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“I’m sorry,” I said to the man at my fron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, “Elaine doesn’t live here anymo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“I’m sorry” I said to the man at my fron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 “Elaine doesn’t live here anymore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“I’m sorry” I said to the man, at my front doo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Elaine doesn’t live here anymore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“I’m sorry,” I said to the man at my front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or, “Elaine doesn’t live here anymo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“I’m sorry” I said to the man at my front doo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Elaine doesn’t live here anymore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“I’m sorry” I said to the man, at my front doo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Elaine doesn’t live here anymore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se clothes, which I bought yesterday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already falling apart, To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se clothes, which I bought yesterday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already falling apart To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se clothes which I bought yesterday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already falling apart, To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These clothes, which I bought yesterday,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re already falling apart, To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hese clothes, which I bought yesterday, ar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ready falling apart To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ese clothes which I bought yesterday, ar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ready falling apart, To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1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Officer, have you found the person, wh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 my walle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Officer have you found the person wh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 my walle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Officer, have you found the person wh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 my walle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1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Officer, have you found the person, wh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 my walle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Officer have you found the person wh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 my walle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Officer, have you found the perso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who stole my wallet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parate a compound sentence: two sentences joined b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nd, but, for, nor, or, so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ye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am tired every morning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bu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ffee wakes me u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t off introductory word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fortunatel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won’t be able to go to your par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I am correc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e won’t arrive until 7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Yes we have pizzas, subs, and calzone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t we don’t make deliveri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Yes, we have pizzas, subs, and calzones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t we don’t make deliveri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Yes, we have pizzas, subs, and calzones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t, we don’t make deliveri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Yes we have pizzas, subs, and calzones but w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’t make deliver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Yes, we have pizzas, subs, and calzones,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ut we don’t make deliver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Yes, we have pizzas, subs, and calzones, but, w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’t make deliver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3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deadline, by the way, is December 15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01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deadline by the way is December, 15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01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 deadline, by the way, is December 15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01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3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The deadline, by the way, is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cember 15, 201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deadline by the way is December, 15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01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 deadline, by the way, is December 15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01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4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“This is my first visit to Dallas, Texas,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id Rita who was born in Boise, Idaho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“This is my first visit to Dallas Texas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id Rita who was born in Boise Idaho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“This is my first visit to Dallas, Texas,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id Rita, who was born in Boise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daho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4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“This is my first visit to Dallas, Texas,” sai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ta who was born in Boise, Idah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“This is my first visit to Dallas Texas” said Rit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was born in Boise Idah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“This is my first visit to Dallas, Texas,”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aid Rita, who was born in Boise, Idah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5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love cookies ice cream and cake, b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y all make me gain we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love cookies, ice cream, and cake, b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y all make me gain we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 love cookies, ice cream, and cake b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y all make me gain we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5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love cookies ice cream and cake, b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y all make me gain we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 love cookies, ice cream, and cake,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t they all make me gain we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 love cookies, ice cream, and cake bu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y all make me gain we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t off appositives and interrupter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positiv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 phrase that renames a nou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ta Lopez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he president of our compan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ill speak at the meeting. [The underlined words rename Marta Lopez.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terrupt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 word or word group that interrupts a sentence but does not affect the meaning of the sente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y the wa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n’t my husband. [The underlined words interrupt the sentence.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t off adjective clauses that can be taken out of a sentence without completely changing the meaning. (Adjective clauses begin 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ho, which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tha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iu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o used to live in that house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ved to New Jerse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use commas to set off adjective clauses essential to the meaning of a sente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ldre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o see their par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a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more likely to want to read themsel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set off quoted words from the rest of a sentenc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know what the thief looked lik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” the victim sai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olice officer replie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“Please tell me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separate the parts of an addres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live at 254 Cherry Circl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yler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 152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set off the name of someone addressed directly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 you please come her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t of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y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hen these words are a response to a ques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like apple pi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 don’t like mel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Pete, when you go to the store, please bu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rots, tea, and coffee filt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Pete, when you go to the store, please bu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rots, tea and coffee filt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Pete when you go to the store, please bu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rots, tea, and coffee filt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a erro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Pete, when you go to the store, pleas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y carrots, tea, and coffee filt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Pete, when you go to the store, please bu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rots, tea and coffee filt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Pete when you go to the store, please bu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rrots, tea, and coffee filt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21:43:14Z</dcterms:modified>
  <cp:revision>199</cp:revision>
  <dc:subject/>
  <dc:title>Sentence Fragments</dc:title>
</cp:coreProperties>
</file>